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604288" cy="43206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74B0-4F94-4360-8FE6-59EB4B34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79640" y="1730520"/>
            <a:ext cx="19443600" cy="72007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1880"/>
                <a:tab algn="l" pos="7404120"/>
              </a:tabLst>
            </a:pPr>
            <a:endParaRPr b="0" lang="en-US" sz="1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640" y="10080360"/>
            <a:ext cx="19443600" cy="1360116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1880"/>
                <a:tab algn="l" pos="7404120"/>
              </a:tabLst>
            </a:pP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79640" y="24973920"/>
            <a:ext cx="19443600" cy="1360116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1880"/>
                <a:tab algn="l" pos="7404120"/>
              </a:tabLst>
            </a:pP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7BB6-8094-4639-9BB3-15DC5A91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1730520"/>
            <a:ext cx="19443600" cy="72007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1880"/>
                <a:tab algn="l" pos="7404120"/>
              </a:tabLst>
            </a:pPr>
            <a:endParaRPr b="0" lang="en-US" sz="1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640" y="10080360"/>
            <a:ext cx="9488160" cy="1360116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1880"/>
                <a:tab algn="l" pos="7404120"/>
              </a:tabLst>
            </a:pP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042640" y="10080360"/>
            <a:ext cx="9488160" cy="1360116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1880"/>
                <a:tab algn="l" pos="7404120"/>
              </a:tabLst>
            </a:pP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640" y="24973920"/>
            <a:ext cx="9488160" cy="1360116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1880"/>
                <a:tab algn="l" pos="7404120"/>
              </a:tabLst>
            </a:pP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042640" y="24973920"/>
            <a:ext cx="9488160" cy="1360116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1880"/>
                <a:tab algn="l" pos="7404120"/>
              </a:tabLst>
            </a:pP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2FFE-6E31-4312-9F3E-37F49F66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79640" y="1730520"/>
            <a:ext cx="19443600" cy="72007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1880"/>
                <a:tab algn="l" pos="7404120"/>
              </a:tabLst>
            </a:pPr>
            <a:endParaRPr b="0" lang="en-US" sz="1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640" y="10080360"/>
            <a:ext cx="6260760" cy="1360116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1880"/>
                <a:tab algn="l" pos="7404120"/>
              </a:tabLst>
            </a:pP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653960" y="10080360"/>
            <a:ext cx="6260760" cy="1360116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1880"/>
                <a:tab algn="l" pos="7404120"/>
              </a:tabLst>
            </a:pP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227920" y="10080360"/>
            <a:ext cx="6260760" cy="1360116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1880"/>
                <a:tab algn="l" pos="7404120"/>
              </a:tabLst>
            </a:pP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79640" y="24973920"/>
            <a:ext cx="6260760" cy="1360116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1880"/>
                <a:tab algn="l" pos="7404120"/>
              </a:tabLst>
            </a:pP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653960" y="24973920"/>
            <a:ext cx="6260760" cy="1360116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1880"/>
                <a:tab algn="l" pos="7404120"/>
              </a:tabLst>
            </a:pP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227920" y="24973920"/>
            <a:ext cx="6260760" cy="1360116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1880"/>
                <a:tab algn="l" pos="7404120"/>
              </a:tabLst>
            </a:pP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B8B7-72B2-41EE-AF6C-A4F107EA7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79640" y="1730520"/>
            <a:ext cx="19443600" cy="72007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1880"/>
                <a:tab algn="l" pos="7404120"/>
              </a:tabLst>
            </a:pPr>
            <a:endParaRPr b="0" lang="en-US" sz="1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79640" y="10080360"/>
            <a:ext cx="19443600" cy="28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51"/>
              </a:spcBef>
              <a:buNone/>
              <a:tabLst>
                <a:tab algn="l" pos="0"/>
                <a:tab algn="l" pos="3701880"/>
                <a:tab algn="l" pos="7404120"/>
              </a:tabLst>
            </a:pP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6EE0-4511-49A5-840E-379825EB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79640" y="1730520"/>
            <a:ext cx="19443600" cy="72007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1880"/>
                <a:tab algn="l" pos="7404120"/>
              </a:tabLst>
            </a:pPr>
            <a:endParaRPr b="0" lang="en-US" sz="1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79640" y="10080360"/>
            <a:ext cx="19443600" cy="28514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1880"/>
                <a:tab algn="l" pos="7404120"/>
              </a:tabLst>
            </a:pP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D220-E425-4F95-BD52-885405AE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9640" y="1730520"/>
            <a:ext cx="19443600" cy="72007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1880"/>
                <a:tab algn="l" pos="7404120"/>
              </a:tabLst>
            </a:pPr>
            <a:endParaRPr b="0" lang="en-US" sz="1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79640" y="10080360"/>
            <a:ext cx="9488160" cy="28514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1880"/>
                <a:tab algn="l" pos="7404120"/>
              </a:tabLst>
            </a:pP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042640" y="10080360"/>
            <a:ext cx="9488160" cy="28514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1880"/>
                <a:tab algn="l" pos="7404120"/>
              </a:tabLst>
            </a:pP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8913-EDB6-429F-A2A8-2833249C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1730520"/>
            <a:ext cx="19443600" cy="72007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1880"/>
                <a:tab algn="l" pos="7404120"/>
              </a:tabLst>
            </a:pPr>
            <a:endParaRPr b="0" lang="en-US" sz="1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83A6-6432-4E30-B426-9DAE63E6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79640" y="1730520"/>
            <a:ext cx="1944360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51"/>
              </a:spcBef>
              <a:tabLst>
                <a:tab algn="l" pos="0"/>
                <a:tab algn="l" pos="3701880"/>
                <a:tab algn="l" pos="7404120"/>
              </a:tabLst>
            </a:pP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8C81-3D8E-4686-9625-98F19016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9640" y="1730520"/>
            <a:ext cx="19443600" cy="72007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1880"/>
                <a:tab algn="l" pos="7404120"/>
              </a:tabLst>
            </a:pPr>
            <a:endParaRPr b="0" lang="en-US" sz="1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640" y="10080360"/>
            <a:ext cx="9488160" cy="1360116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1880"/>
                <a:tab algn="l" pos="7404120"/>
              </a:tabLst>
            </a:pP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042640" y="10080360"/>
            <a:ext cx="9488160" cy="28514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1880"/>
                <a:tab algn="l" pos="7404120"/>
              </a:tabLst>
            </a:pP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79640" y="24973920"/>
            <a:ext cx="9488160" cy="1360116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1880"/>
                <a:tab algn="l" pos="7404120"/>
              </a:tabLst>
            </a:pP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94EC-2A08-4E0F-974D-AF2EEEEC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79640" y="1730520"/>
            <a:ext cx="19443600" cy="72007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1880"/>
                <a:tab algn="l" pos="7404120"/>
              </a:tabLst>
            </a:pPr>
            <a:endParaRPr b="0" lang="en-US" sz="1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9640" y="10080360"/>
            <a:ext cx="9488160" cy="28514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1880"/>
                <a:tab algn="l" pos="7404120"/>
              </a:tabLst>
            </a:pP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042640" y="10080360"/>
            <a:ext cx="9488160" cy="1360116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1880"/>
                <a:tab algn="l" pos="7404120"/>
              </a:tabLst>
            </a:pP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042640" y="24973920"/>
            <a:ext cx="9488160" cy="1360116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1880"/>
                <a:tab algn="l" pos="7404120"/>
              </a:tabLst>
            </a:pP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AE07-C56E-4FFC-8E16-B56A8E38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9640" y="1730520"/>
            <a:ext cx="19443600" cy="72007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1880"/>
                <a:tab algn="l" pos="7404120"/>
              </a:tabLst>
            </a:pPr>
            <a:endParaRPr b="0" lang="en-US" sz="1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640" y="10080360"/>
            <a:ext cx="9488160" cy="1360116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1880"/>
                <a:tab algn="l" pos="7404120"/>
              </a:tabLst>
            </a:pP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042640" y="10080360"/>
            <a:ext cx="9488160" cy="1360116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1880"/>
                <a:tab algn="l" pos="7404120"/>
              </a:tabLst>
            </a:pP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640" y="24973920"/>
            <a:ext cx="19443600" cy="1360116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1880"/>
                <a:tab algn="l" pos="7404120"/>
              </a:tabLst>
            </a:pP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A212-4855-4B65-87B0-51484CFF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9640" y="1730520"/>
            <a:ext cx="19443600" cy="72007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1880"/>
                <a:tab algn="l" pos="7404120"/>
              </a:tabLst>
            </a:pPr>
            <a:r>
              <a:rPr b="0" lang="en-US" sz="17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79640" y="10080360"/>
            <a:ext cx="19443600" cy="2851452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marL="1387440" indent="-1387440">
              <a:spcBef>
                <a:spcPts val="3251"/>
              </a:spcBef>
              <a:buClr>
                <a:srgbClr val="000000"/>
              </a:buClr>
              <a:buFont typeface="Arial"/>
              <a:buChar char="•"/>
              <a:tabLst>
                <a:tab algn="l" pos="3701880"/>
                <a:tab algn="l" pos="740412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  <a:p>
            <a:pPr lvl="1" marL="3008160" indent="-1157040">
              <a:spcBef>
                <a:spcPts val="3251"/>
              </a:spcBef>
              <a:buClr>
                <a:srgbClr val="000000"/>
              </a:buClr>
              <a:buFont typeface="Arial"/>
              <a:buChar char="–"/>
              <a:tabLst>
                <a:tab algn="l" pos="3701880"/>
                <a:tab algn="l" pos="740412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  <a:p>
            <a:pPr lvl="2" marL="4629240" indent="-925560">
              <a:spcBef>
                <a:spcPts val="3251"/>
              </a:spcBef>
              <a:buClr>
                <a:srgbClr val="000000"/>
              </a:buClr>
              <a:buFont typeface="Arial"/>
              <a:buChar char="•"/>
              <a:tabLst>
                <a:tab algn="l" pos="3701880"/>
                <a:tab algn="l" pos="740412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  <a:p>
            <a:pPr lvl="3" marL="6480000" indent="-925200">
              <a:spcBef>
                <a:spcPts val="3251"/>
              </a:spcBef>
              <a:buClr>
                <a:srgbClr val="000000"/>
              </a:buClr>
              <a:buFont typeface="Arial"/>
              <a:buChar char="–"/>
              <a:tabLst>
                <a:tab algn="l" pos="3701880"/>
                <a:tab algn="l" pos="740412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  <a:p>
            <a:pPr lvl="4" marL="8331120" indent="-925560">
              <a:spcBef>
                <a:spcPts val="3251"/>
              </a:spcBef>
              <a:buClr>
                <a:srgbClr val="000000"/>
              </a:buClr>
              <a:buFont typeface="Arial"/>
              <a:buChar char="»"/>
              <a:tabLst>
                <a:tab algn="l" pos="3701880"/>
                <a:tab algn="l" pos="740412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  <a:p>
            <a:pPr lvl="5" marL="8331120" indent="-925560">
              <a:spcBef>
                <a:spcPts val="3251"/>
              </a:spcBef>
              <a:buClr>
                <a:srgbClr val="000000"/>
              </a:buClr>
              <a:buFont typeface="Arial"/>
              <a:buChar char="»"/>
              <a:tabLst>
                <a:tab algn="l" pos="3701880"/>
                <a:tab algn="l" pos="740412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  <a:p>
            <a:pPr lvl="6" marL="8331120" indent="-925560">
              <a:spcBef>
                <a:spcPts val="3251"/>
              </a:spcBef>
              <a:buClr>
                <a:srgbClr val="000000"/>
              </a:buClr>
              <a:buFont typeface="Arial"/>
              <a:buChar char="»"/>
              <a:tabLst>
                <a:tab algn="l" pos="3701880"/>
                <a:tab algn="l" pos="740412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79280" y="40044600"/>
            <a:ext cx="5041800" cy="230040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701880"/>
                <a:tab algn="l" pos="7404120"/>
              </a:tabLst>
              <a:defRPr b="0" lang="zh-TW" sz="4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701880"/>
                <a:tab algn="l" pos="7404120"/>
              </a:tabLst>
            </a:pPr>
            <a:r>
              <a:rPr b="0" lang="zh-TW" sz="4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380360" y="40044600"/>
            <a:ext cx="6842160" cy="230040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ctr">
            <a:noAutofit/>
          </a:bodyPr>
          <a:p>
            <a:pPr indent="0">
              <a:buNone/>
              <a:tabLst>
                <a:tab algn="l" pos="0"/>
                <a:tab algn="l" pos="3701880"/>
                <a:tab algn="l" pos="74041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481080" y="40044600"/>
            <a:ext cx="5041800" cy="230040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3701880"/>
                <a:tab algn="l" pos="7404120"/>
              </a:tabLst>
              <a:defRPr b="0" lang="zh-TW" sz="4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3701880"/>
                <a:tab algn="l" pos="7404120"/>
              </a:tabLst>
            </a:pPr>
            <a:fld id="{F0458C08-1CD7-4CC3-9D52-7CA52722703D}" type="slidenum">
              <a:rPr b="0" lang="zh-TW" sz="4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字方塊 3"/>
          <p:cNvSpPr/>
          <p:nvPr/>
        </p:nvSpPr>
        <p:spPr>
          <a:xfrm>
            <a:off x="5761080" y="6345360"/>
            <a:ext cx="106552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701880"/>
                <a:tab algn="l" pos="7404120"/>
              </a:tabLst>
            </a:pPr>
            <a:r>
              <a:rPr b="0" lang="zh-TW" sz="73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於此範圍設計海報內容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群組 13"/>
          <p:cNvGrpSpPr/>
          <p:nvPr/>
        </p:nvGrpSpPr>
        <p:grpSpPr>
          <a:xfrm>
            <a:off x="4680" y="32405760"/>
            <a:ext cx="21598200" cy="10799640"/>
            <a:chOff x="4680" y="32405760"/>
            <a:chExt cx="21598200" cy="10799640"/>
          </a:xfrm>
        </p:grpSpPr>
        <p:pic>
          <p:nvPicPr>
            <p:cNvPr id="43" name="圖片 2" descr="解說海報.jpg"/>
            <p:cNvPicPr/>
            <p:nvPr/>
          </p:nvPicPr>
          <p:blipFill>
            <a:blip r:embed="rId1"/>
            <a:stretch/>
          </p:blipFill>
          <p:spPr>
            <a:xfrm>
              <a:off x="4680" y="32405760"/>
              <a:ext cx="21598200" cy="1079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文字方塊 4"/>
            <p:cNvSpPr/>
            <p:nvPr/>
          </p:nvSpPr>
          <p:spPr>
            <a:xfrm>
              <a:off x="3889080" y="33267600"/>
              <a:ext cx="1303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701880"/>
                  <a:tab algn="l" pos="740412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新細明體"/>
                </a:rPr>
                <a:t>鍵入中文作品名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文字方塊 5"/>
            <p:cNvSpPr/>
            <p:nvPr/>
          </p:nvSpPr>
          <p:spPr>
            <a:xfrm>
              <a:off x="3889080" y="33986880"/>
              <a:ext cx="1303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701880"/>
                  <a:tab algn="l" pos="740412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新細明體"/>
                </a:rPr>
                <a:t>鍵入英文作品名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文字方塊 8"/>
            <p:cNvSpPr/>
            <p:nvPr/>
          </p:nvSpPr>
          <p:spPr>
            <a:xfrm>
              <a:off x="8641080" y="34923600"/>
              <a:ext cx="49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701880"/>
                  <a:tab algn="l" pos="740412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Calibri"/>
                </a:rPr>
                <a:t>鍵入作者中英文姓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文字方塊 9"/>
            <p:cNvSpPr/>
            <p:nvPr/>
          </p:nvSpPr>
          <p:spPr>
            <a:xfrm>
              <a:off x="183240" y="36445680"/>
              <a:ext cx="10513080" cy="565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701880"/>
                  <a:tab algn="l" pos="7404120"/>
                </a:tabLst>
              </a:pPr>
              <a:r>
                <a:rPr b="0" lang="zh-TW" sz="7300" spc="-1" strike="noStrike">
                  <a:solidFill>
                    <a:srgbClr val="000000"/>
                  </a:solidFill>
                  <a:latin typeface="Calibri"/>
                </a:rPr>
                <a:t>鍵入中文摘要</a:t>
              </a:r>
              <a:endParaRPr b="0" lang="en-US" sz="7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701880"/>
                  <a:tab algn="l" pos="7404120"/>
                </a:tabLst>
              </a:pPr>
              <a:endParaRPr b="0" lang="en-US" sz="7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701880"/>
                  <a:tab algn="l" pos="7404120"/>
                </a:tabLst>
              </a:pPr>
              <a:endParaRPr b="0" lang="en-US" sz="7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701880"/>
                  <a:tab algn="l" pos="7404120"/>
                </a:tabLst>
              </a:pPr>
              <a:endParaRPr b="0" lang="en-US" sz="7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701880"/>
                  <a:tab algn="l" pos="7404120"/>
                </a:tabLst>
              </a:pPr>
              <a:endParaRPr b="0" lang="en-US" sz="7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文字方塊 10"/>
            <p:cNvSpPr/>
            <p:nvPr/>
          </p:nvSpPr>
          <p:spPr>
            <a:xfrm>
              <a:off x="10800000" y="36420840"/>
              <a:ext cx="10676160" cy="565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701880"/>
                  <a:tab algn="l" pos="7404120"/>
                </a:tabLst>
              </a:pPr>
              <a:r>
                <a:rPr b="0" lang="zh-TW" sz="7300" spc="-1" strike="noStrike">
                  <a:solidFill>
                    <a:srgbClr val="000000"/>
                  </a:solidFill>
                  <a:latin typeface="Calibri"/>
                </a:rPr>
                <a:t>鍵入英文摘要</a:t>
              </a:r>
              <a:endParaRPr b="0" lang="en-US" sz="7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701880"/>
                  <a:tab algn="l" pos="7404120"/>
                </a:tabLst>
              </a:pPr>
              <a:endParaRPr b="0" lang="en-US" sz="7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701880"/>
                  <a:tab algn="l" pos="7404120"/>
                </a:tabLst>
              </a:pPr>
              <a:endParaRPr b="0" lang="en-US" sz="7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701880"/>
                  <a:tab algn="l" pos="7404120"/>
                </a:tabLst>
              </a:pPr>
              <a:endParaRPr b="0" lang="en-US" sz="7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701880"/>
                  <a:tab algn="l" pos="7404120"/>
                </a:tabLst>
              </a:pPr>
              <a:endParaRPr b="0" lang="en-US" sz="7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文字方塊 11"/>
            <p:cNvSpPr/>
            <p:nvPr/>
          </p:nvSpPr>
          <p:spPr>
            <a:xfrm>
              <a:off x="17354520" y="32497560"/>
              <a:ext cx="388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701880"/>
                  <a:tab algn="l" pos="7404120"/>
                </a:tabLst>
              </a:pPr>
              <a:r>
                <a:rPr b="0" lang="zh-TW" sz="3200" spc="-1" strike="noStrike">
                  <a:solidFill>
                    <a:srgbClr val="000000"/>
                  </a:solidFill>
                  <a:latin typeface="Calibri"/>
                </a:rPr>
                <a:t>編號：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(</a:t>
              </a:r>
              <a:r>
                <a:rPr b="0" lang="zh-TW" sz="2800" spc="-1" strike="noStrike">
                  <a:solidFill>
                    <a:srgbClr val="ff0000"/>
                  </a:solidFill>
                  <a:latin typeface="Calibri"/>
                </a:rPr>
                <a:t>學會統一處理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文字方塊 12"/>
            <p:cNvSpPr/>
            <p:nvPr/>
          </p:nvSpPr>
          <p:spPr>
            <a:xfrm>
              <a:off x="16994160" y="33411240"/>
              <a:ext cx="460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701880"/>
                  <a:tab algn="l" pos="740412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Patent:(</a:t>
              </a:r>
              <a:r>
                <a:rPr b="0" lang="zh-TW" sz="2800" spc="-1" strike="noStrike">
                  <a:solidFill>
                    <a:srgbClr val="000000"/>
                  </a:solidFill>
                  <a:latin typeface="Calibri"/>
                </a:rPr>
                <a:t>有專利者請填入編號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文字方塊 3"/>
          <p:cNvSpPr/>
          <p:nvPr/>
        </p:nvSpPr>
        <p:spPr>
          <a:xfrm>
            <a:off x="5761080" y="8569440"/>
            <a:ext cx="10655280" cy="34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701880"/>
                <a:tab algn="l" pos="7404120"/>
              </a:tabLst>
            </a:pPr>
            <a:r>
              <a:rPr b="0" lang="zh-TW" sz="73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完稿</a:t>
            </a:r>
            <a:r>
              <a:rPr b="0" lang="en-US" sz="73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73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含中英文摘要</a:t>
            </a:r>
            <a:r>
              <a:rPr b="0" lang="en-US" sz="73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01880"/>
                <a:tab algn="l" pos="7404120"/>
              </a:tabLst>
            </a:pPr>
            <a:r>
              <a:rPr b="0" lang="zh-TW" sz="7300" spc="-1" strike="noStrike">
                <a:solidFill>
                  <a:srgbClr val="000000"/>
                </a:solidFill>
                <a:latin typeface="Times New Roman"/>
                <a:ea typeface="標楷體"/>
              </a:rPr>
              <a:t>海報尺寸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01880"/>
                <a:tab algn="l" pos="7404120"/>
              </a:tabLst>
            </a:pPr>
            <a:r>
              <a:rPr b="0" lang="zh-TW" sz="7300" spc="-1" strike="noStrike">
                <a:solidFill>
                  <a:srgbClr val="000000"/>
                </a:solidFill>
                <a:latin typeface="Times New Roman"/>
                <a:ea typeface="標楷體"/>
              </a:rPr>
              <a:t>寬</a:t>
            </a:r>
            <a:r>
              <a:rPr b="0" lang="en-US" sz="7300" spc="-1" strike="noStrike">
                <a:solidFill>
                  <a:srgbClr val="000000"/>
                </a:solidFill>
                <a:latin typeface="Times New Roman"/>
                <a:ea typeface="標楷體"/>
              </a:rPr>
              <a:t>60cm × </a:t>
            </a:r>
            <a:r>
              <a:rPr b="0" lang="zh-TW" sz="7300" spc="-1" strike="noStrike">
                <a:solidFill>
                  <a:srgbClr val="000000"/>
                </a:solidFill>
                <a:latin typeface="Times New Roman"/>
                <a:ea typeface="標楷體"/>
              </a:rPr>
              <a:t>長</a:t>
            </a:r>
            <a:r>
              <a:rPr b="0" lang="en-US" sz="7300" spc="-1" strike="noStrike">
                <a:solidFill>
                  <a:srgbClr val="000000"/>
                </a:solidFill>
                <a:latin typeface="Times New Roman"/>
                <a:ea typeface="標楷體"/>
              </a:rPr>
              <a:t>120cm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06:38:48Z</dcterms:created>
  <dc:creator>ASUS</dc:creator>
  <dc:description/>
  <dc:language>en-US</dc:language>
  <cp:lastModifiedBy>ASUS</cp:lastModifiedBy>
  <dcterms:modified xsi:type="dcterms:W3CDTF">2015-04-27T03:32:22Z</dcterms:modified>
  <cp:revision>12</cp:revision>
  <dc:subject/>
  <dc:title>投影片 1</dc:title>
</cp:coreProperties>
</file>